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34F27-1384-48AE-88E8-0934AC3C47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of Trakai forest (Lithuania?) from: http://andreasmoser.wordpress.com/2012/07/07/trak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bio1151b.nicerweb.net/Locked/media/ch30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biology.clc.uc.edu/courses/bio106/gymnospr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biologylabs.utah.edu/sperry/project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s://sites.google.com/site/botany317/session-2/eukaryotes/plants/session-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sussex3d.com/avon-wheatbelt/flower-and-honeyeater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taken from: http://www.learner.org/courses/essential/life/session4/closer1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apbiologywiki.wikispaces.com/Pl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graphicpanic.com/beautiful-leaves-background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espaliers.com.au/maintaining-your-plants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justanswer.com/tax/0e5hx-cross-section-monocot-leaf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onekp.com/essential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cfkeep.org/html/stitch.php?s=54373324154293&amp;id=777488138319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of Krauss’ clubmoss: http://21stcenturynaturalist.blogspot.ca/2010/07/lycophytes-are-living-fossil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of Massachussets fern from: http://21stcenturynaturalist.blogspot.ca/2010/07/lycophytes-are-living-fossil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455F2-C403-4747-9DAD-0692B6505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E8A8D-1E97-4B5A-B68E-5EB9F2ED6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78643-D84D-47E2-954A-1FF34A89C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30979-AFD1-42A0-BDC3-AD566C366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51DB6-CD6E-4651-9069-C79BE0D3F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F96F1-03EB-43A2-9196-B470351D7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30479-7088-4480-A4B3-124C9E88C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39648-5F1E-470F-92D4-C99318391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9BA07-465D-4D92-AD7F-3F7E5ED87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8E13F-834D-4A26-9725-F6C1AFA3C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A6BE2-2D50-4359-A6B1-C1CA9DF06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902D5-5752-4861-89B2-617377489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D1366-50BA-4A70-B365-472803EB7C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ingdom Planta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ymnosper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593720" y="1600200"/>
            <a:ext cx="595656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938160" y="1676520"/>
            <a:ext cx="726768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giosper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495440" y="1600200"/>
            <a:ext cx="62276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447920" y="304920"/>
            <a:ext cx="624816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906480" y="609480"/>
            <a:ext cx="7329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ternation of Gener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577880" y="1981080"/>
            <a:ext cx="59882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nocots &amp; Eudico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766880" y="1981080"/>
            <a:ext cx="56102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racteristics of Pla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cellular eukaryo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most all are photosynthet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ll walls composed of cellul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rrestrial plants are sess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ortance of Pla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otosynth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bitats for other organis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de range of uses (medicines, clothing, wood, paper products, et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ylogen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olved from ancien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arophyt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green alga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ition to land required strategies to prevent water loss while allowing gas exchange (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utic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omat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914400" y="609480"/>
            <a:ext cx="73152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ylogen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814320" y="1600200"/>
            <a:ext cx="751536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685800" y="819000"/>
            <a:ext cx="7772400" cy="50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ycophytes (club moss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827360" y="1981080"/>
            <a:ext cx="54878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terophytes (ferns &amp; relativ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827360" y="1981080"/>
            <a:ext cx="54878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24T03:08:23Z</dcterms:created>
  <dc:creator>rubina khan</dc:creator>
  <dc:description/>
  <dc:language>en-US</dc:language>
  <cp:lastModifiedBy>rubina khan</cp:lastModifiedBy>
  <dcterms:modified xsi:type="dcterms:W3CDTF">2014-09-25T16:56:44Z</dcterms:modified>
  <cp:revision>28</cp:revision>
  <dc:subject/>
  <dc:title>PowerPoint Presentation</dc:title>
</cp:coreProperties>
</file>